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63A1-29E4-47F4-BDE5-93484C9EC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4230-DA1F-4C42-BBD2-F6FB4DF2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14D1-8C9F-4EEE-BCEA-A745AE88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FA26-B692-4C23-91E8-BD1A959B6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B19B-B25C-412D-AD91-2C9E369C4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426B-63EB-4994-B9CD-A39D5028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D807-C027-4661-ABE4-7F8FF1E0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4EB7-2A25-4BDD-800E-10201640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67DF-11C8-4172-BEF8-CB897A0B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C33F-60F3-46DA-A146-5FF20834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9B43-8A15-4F69-B0D2-5A1AB96C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C63C-FC31-487C-B9C2-5B78349C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A73B-7ABE-46FE-B129-6ACC17B6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3A6B-53EF-4984-B107-5CF1D3A1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3597-C1D9-47FE-9C05-740CC53D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EDFE-399C-4195-BE0F-5497F46F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407D-F896-47D0-96A7-8846C514E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0C97-7FBE-4842-BC18-FF20FB6A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4633-61FA-468C-97A5-49CB371B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6DEC-3DA9-4DDD-9321-F37550F1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FDF3-FF18-43DD-9EB1-36EDD7CC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5873-75E5-4B51-AE7E-D210E3F9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2138-6D0A-424B-87A5-962C2A3B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4F33-47F6-48BF-AC34-10AF2933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57C0-5DFE-47F6-B6D5-1FBC6BB9FBE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9C69-3024-4174-B85F-D6B35DA18CB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jeremy_may@263.net" TargetMode="External"/><Relationship Id="rId2" Type="http://schemas.openxmlformats.org/officeDocument/2006/relationships/hyperlink" Target="mailto:tian-le@263.ne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846720"/>
            <a:ext cx="2057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Snap ITC"/>
                <a:ea typeface="幼圆"/>
              </a:rPr>
              <a:t>LOG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533520"/>
            <a:ext cx="106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ladimir Script"/>
                <a:ea typeface="幼圆"/>
              </a:rPr>
              <a:t>M</a:t>
            </a:r>
            <a:r>
              <a:rPr b="0" lang="en-US" sz="7200" spc="-1" strike="noStrike">
                <a:solidFill>
                  <a:srgbClr val="ffff00"/>
                </a:solidFill>
                <a:latin typeface="Vladimir Script"/>
                <a:ea typeface="幼圆"/>
              </a:rPr>
              <a:t>e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828800"/>
            <a:ext cx="731520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终于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幼圆"/>
              </a:rPr>
              <a:t>，在冲破了期末考试、军训、搬家、的诸多影响和电脑游戏的巨大诱惑之后，我们的程序得以完工。现在浙江天气是秋高气爽，不冷不热，衬着愉快的心情…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幼圆"/>
              </a:rPr>
              <a:t>多么美丽的秋天呀！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幼圆"/>
              </a:rPr>
              <a:t>想当年，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幼圆"/>
              </a:rPr>
              <a:t>LOGO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幼圆"/>
              </a:rPr>
              <a:t>语言与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幼圆"/>
              </a:rPr>
              <a:t>Basic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幼圆"/>
              </a:rPr>
              <a:t>语言各占了中小学计算机教育的半边天，作为一个从 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幼圆"/>
              </a:rPr>
              <a:t>LOGO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幼圆"/>
              </a:rPr>
              <a:t>语言起家的程序员，我对那个尖尖的海龟，大大的字符和方方的光标有着很深的感情。可惜美中不足的，是如此优秀的语言竟然没有中文版。如果不是这样的话，凭着它的易学易用、强大的功能、趣味的设计和它对优秀的“结构化”的程序设计风格的支持，哪里还有什么“意大利面条”式的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幼圆"/>
              </a:rPr>
              <a:t>Basic? 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幼圆"/>
              </a:rPr>
              <a:t>恐怕早已失传喽 </a:t>
            </a:r>
            <a:r>
              <a:rPr b="0" lang="zh-CN" sz="1400" spc="-1" strike="noStrike">
                <a:solidFill>
                  <a:srgbClr val="ffffff"/>
                </a:solidFill>
                <a:latin typeface="幼圆"/>
                <a:ea typeface="幼圆"/>
              </a:rPr>
              <a:t>^o^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幼圆"/>
              </a:rPr>
              <a:t>早就有了编一个中文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幼圆"/>
              </a:rPr>
              <a:t>LOGO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幼圆"/>
              </a:rPr>
              <a:t>的愿望，无奈中学时候忙于高考（我们国家的应试教育呀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幼圆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幼圆"/>
              </a:rPr>
              <a:t>唉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幼圆"/>
              </a:rPr>
              <a:t>!…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幼圆"/>
              </a:rPr>
              <a:t>这次终于是可以“堂堂正正”的编一回了，还可以两人合作，圆了我的一个梦。编了一个解释器，语法来自于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幼圆"/>
              </a:rPr>
              <a:t>MIT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幼圆"/>
              </a:rPr>
              <a:t>的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幼圆"/>
              </a:rPr>
              <a:t>LOGO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幼圆"/>
              </a:rPr>
              <a:t>语言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幼圆"/>
              </a:rPr>
              <a:t>2.0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幼圆"/>
              </a:rPr>
              <a:t>版本。并根据需要增加了一些控制命令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幼圆"/>
              </a:rPr>
              <a:t>由于今年是千禧年，什么都要和它挂个边，沾沾喜气嘛！于是我们的作品被正式命名为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幼圆"/>
              </a:rPr>
              <a:t>　　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2057040" y="1600200"/>
            <a:ext cx="5791320" cy="2819520"/>
          </a:xfrm>
          <a:prstGeom prst="line">
            <a:avLst/>
          </a:prstGeom>
          <a:ln w="22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848000" y="4419720"/>
            <a:ext cx="75960" cy="75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85440" y="1600200"/>
            <a:ext cx="2971800" cy="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761040"/>
            <a:ext cx="182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33"/>
                </a:solidFill>
                <a:latin typeface="Arial Black"/>
                <a:ea typeface="幼圆"/>
              </a:rPr>
              <a:t>特点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1752480"/>
            <a:ext cx="853452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全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幼圆"/>
              </a:rPr>
              <a:t>中文界面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，即使是不懂英文的小孩子，也不再有语言障碍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绝对精当的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幼圆"/>
              </a:rPr>
              <a:t>640*480*16-bit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幼圆"/>
              </a:rPr>
              <a:t>分辨率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系统加上精美的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幼圆"/>
              </a:rPr>
              <a:t>仿</a:t>
            </a:r>
            <a:r>
              <a:rPr b="0" lang="zh-CN" sz="2000" spc="-1" strike="noStrike">
                <a:solidFill>
                  <a:srgbClr val="ffff00"/>
                </a:solidFill>
                <a:latin typeface="Lucida Handwriting"/>
                <a:ea typeface="幼圆"/>
              </a:rPr>
              <a:t>Microsoft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Lucida Handwriting"/>
                <a:ea typeface="幼圆"/>
              </a:rPr>
              <a:t>        </a:t>
            </a:r>
            <a:r>
              <a:rPr b="0" lang="zh-CN" sz="2000" spc="-1" strike="noStrike">
                <a:solidFill>
                  <a:srgbClr val="ffff00"/>
                </a:solidFill>
                <a:latin typeface="Lucida Handwriting"/>
                <a:ea typeface="幼圆"/>
              </a:rPr>
              <a:t>Windows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幼圆"/>
              </a:rPr>
              <a:t>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幼圆"/>
              </a:rPr>
              <a:t>的界面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，赏心悦目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提供了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幼圆"/>
              </a:rPr>
              <a:t>全部的绘图函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，并加以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幼圆"/>
              </a:rPr>
              <a:t>改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，提高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幼圆"/>
              </a:rPr>
              <a:t>颜色分辨率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，然你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不留一点遗憾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提供了方便的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幼圆"/>
              </a:rPr>
              <a:t>条件判断语句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和一系列的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幼圆"/>
              </a:rPr>
              <a:t>程序控制命令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，然你编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出真正的程序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提供了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幼圆"/>
              </a:rPr>
              <a:t>对“结构化程序设计”的支持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，完整的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幼圆"/>
              </a:rPr>
              <a:t>子过程调用，形式　　 参数传递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，并能实现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幼圆"/>
              </a:rPr>
              <a:t>递归算法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。让你的程序设计更加出众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836640"/>
            <a:ext cx="1371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33"/>
                </a:solidFill>
                <a:latin typeface="Arial Black"/>
                <a:ea typeface="幼圆"/>
              </a:rPr>
              <a:t>分工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1828800"/>
            <a:ext cx="76197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幼圆"/>
              </a:rPr>
              <a:t>程序编写不是一件轻松之事，靠个人的力量是不能做好的。因此 </a:t>
            </a:r>
            <a:r>
              <a:rPr b="0" lang="zh-CN" sz="1600" spc="-1" strike="noStrike">
                <a:solidFill>
                  <a:srgbClr val="ff99ff"/>
                </a:solidFill>
                <a:latin typeface="Snap ITC"/>
                <a:ea typeface="幼圆"/>
              </a:rPr>
              <a:t>LOGO</a:t>
            </a:r>
            <a:r>
              <a:rPr b="0" lang="zh-CN" sz="1600" spc="-1" strike="noStrike">
                <a:solidFill>
                  <a:srgbClr val="ffffff"/>
                </a:solidFill>
                <a:latin typeface="Vladimir Script"/>
                <a:ea typeface="幼圆"/>
              </a:rPr>
              <a:t> </a:t>
            </a:r>
            <a:r>
              <a:rPr b="1" lang="zh-CN" sz="1600" spc="-1" strike="noStrike">
                <a:solidFill>
                  <a:srgbClr val="ffff00"/>
                </a:solidFill>
                <a:latin typeface="Vladimir Script"/>
                <a:ea typeface="幼圆"/>
              </a:rPr>
              <a:t>M</a:t>
            </a:r>
            <a:r>
              <a:rPr b="1" lang="zh-CN" sz="3200" spc="-1" strike="noStrike">
                <a:solidFill>
                  <a:srgbClr val="ffff00"/>
                </a:solidFill>
                <a:latin typeface="Vladimir Script"/>
                <a:ea typeface="幼圆"/>
              </a:rPr>
              <a:t>e</a:t>
            </a:r>
            <a:r>
              <a:rPr b="1" lang="zh-CN" sz="3200" spc="-1" strike="noStrike">
                <a:solidFill>
                  <a:srgbClr val="ffffff"/>
                </a:solidFill>
                <a:latin typeface="Vladimir Script"/>
                <a:ea typeface="幼圆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幼圆"/>
              </a:rPr>
              <a:t>是一对搭档，梅林和田乐，合作编写的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黑体"/>
              </a:rPr>
              <a:t>：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7160" y="30369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ff"/>
                </a:solidFill>
                <a:latin typeface="Times New Roman"/>
                <a:ea typeface="华文行楷"/>
              </a:rPr>
              <a:t>梅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1160" y="3733920"/>
            <a:ext cx="2056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幼圆"/>
              </a:rPr>
              <a:t>负责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幼圆"/>
              </a:rPr>
              <a:t>程序的总体结构设计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幼圆"/>
              </a:rPr>
              <a:t>语法分析的算法设计和相应函数的编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幼圆"/>
              </a:rPr>
              <a:t>数据结构的设计和相应函数的编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幼圆"/>
              </a:rPr>
              <a:t>编辑命令相应函数的编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64760" y="3048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ff"/>
                </a:solidFill>
                <a:latin typeface="Times New Roman"/>
                <a:ea typeface="华文行楷"/>
              </a:rPr>
              <a:t>田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99200" y="3733920"/>
            <a:ext cx="29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幼圆"/>
              </a:rPr>
              <a:t>负责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幼圆"/>
              </a:rPr>
              <a:t>绘图命令相应函数的设计和编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幼圆"/>
              </a:rPr>
              <a:t>精美的仿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幼圆"/>
              </a:rPr>
              <a:t>Microsoft windows 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幼圆"/>
              </a:rPr>
              <a:t>界面的设计制作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幼圆"/>
              </a:rPr>
              <a:t>程序算法的优化和调试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684720"/>
            <a:ext cx="16002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ff33"/>
                </a:solidFill>
                <a:latin typeface="Arial Black"/>
                <a:ea typeface="幼圆"/>
              </a:rPr>
              <a:t>鸣谢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"/>
          <p:cNvSpPr/>
          <p:nvPr/>
        </p:nvSpPr>
        <p:spPr>
          <a:xfrm>
            <a:off x="2211480" y="1981080"/>
            <a:ext cx="475272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在</a:t>
            </a:r>
            <a:r>
              <a:rPr b="0" lang="zh-CN" sz="3200" spc="-1" strike="noStrike">
                <a:solidFill>
                  <a:srgbClr val="ffff00"/>
                </a:solidFill>
                <a:latin typeface="华文行楷"/>
                <a:ea typeface="华文行楷"/>
              </a:rPr>
              <a:t>吴嘉之</a:t>
            </a:r>
            <a:r>
              <a:rPr b="0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同学的支持下，我们的程序才得以上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640*480*16bit</a:t>
            </a:r>
            <a:r>
              <a:rPr b="0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的分辨率。他在我们程序的最后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试提高分辨率期间，我们给他添了不少麻烦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（常常受到我们的“</a:t>
            </a:r>
            <a:r>
              <a:rPr b="0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绑架</a:t>
            </a:r>
            <a:r>
              <a:rPr b="0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”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威胁</a:t>
            </a:r>
            <a:r>
              <a:rPr b="0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”和“</a:t>
            </a:r>
            <a:r>
              <a:rPr b="0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逼迫</a:t>
            </a:r>
            <a:r>
              <a:rPr b="0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”。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在此，</a:t>
            </a:r>
            <a:r>
              <a:rPr b="0" lang="zh-CN" sz="2800" spc="-1" strike="noStrike">
                <a:solidFill>
                  <a:srgbClr val="ffff00"/>
                </a:solidFill>
                <a:latin typeface="幼圆"/>
                <a:ea typeface="幼圆"/>
              </a:rPr>
              <a:t>特别感谢</a:t>
            </a:r>
            <a:r>
              <a:rPr b="0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j0078742" descr=""/>
          <p:cNvPicPr/>
          <p:nvPr/>
        </p:nvPicPr>
        <p:blipFill>
          <a:blip r:embed="rId1"/>
          <a:stretch/>
        </p:blipFill>
        <p:spPr>
          <a:xfrm>
            <a:off x="5105520" y="3657600"/>
            <a:ext cx="236196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33520" y="504720"/>
            <a:ext cx="81532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Times New Roman"/>
                <a:ea typeface="幼圆"/>
              </a:rPr>
              <a:t>谢谢使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这是一个自由软件，欢迎传播和改进，但是请不要用于任何商业用途。要是有什么好的建议，别忘了写信告诉我们。要是有了好的改进，别忘了也发一份给我们哟！另外，如果使用中发现了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bug,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请与我们联系，我们会尽力加以改正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我们的联系方法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梅林：</a:t>
            </a: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幼圆"/>
                <a:hlinkClick r:id="rId1"/>
              </a:rPr>
              <a:t>jeremy_may@263.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田乐：</a:t>
            </a: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幼圆"/>
                <a:hlinkClick r:id="rId2"/>
              </a:rPr>
              <a:t>tian-le@263.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5562000" y="4722120"/>
            <a:ext cx="2803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梅林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田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               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2000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、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9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、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11    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于求是园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1T11:27:12Z</dcterms:created>
  <dc:creator>yangzhf</dc:creator>
  <dc:description/>
  <dc:language>en-US</dc:language>
  <cp:lastModifiedBy>张霄汉</cp:lastModifiedBy>
  <dcterms:modified xsi:type="dcterms:W3CDTF">2001-03-09T07:45:16Z</dcterms:modified>
  <cp:revision>12</cp:revision>
  <dc:subject/>
  <dc:title>LOGO</dc:title>
</cp:coreProperties>
</file>